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D2E2-3B63-4805-BCAD-180AA841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B19D-5CC3-42C0-AD9B-A2AFC115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919E-8647-4327-9234-EDD6057C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B888-85F6-4938-89DA-C1CD3600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1662-EA13-437F-A1A3-7394F72A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D39D-CDE7-4889-BE1F-BDA9F64A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719E-0AFB-4017-A975-B91A69E9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3785-E542-4CA3-B905-C8D660E0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49DC-1692-44D5-B896-4EDF5174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58AD-DAF2-4EC6-BF4D-72B682DE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47D3-CAF9-42C0-A41D-6009E1AE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DC33-C672-4254-B623-9BF42EA3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50E9-7BD4-45B9-ADAD-D9BB6736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31D9-F50F-412B-BB2F-CC606A25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DD14-BA95-460F-8A45-7A328F56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0138-513F-4612-9523-F0DDAB02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1157-05E6-4B0E-838D-3B7B7E86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BD1A-7EF7-4062-8704-193BF446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6D59-03D0-41EB-82F5-2F2A25A9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71EC-A0E4-4B11-AB6A-76BE754D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7304-7686-41AE-AA9D-AACF44AD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0E8C-165C-40CA-B5E1-9A50176E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33A0-E25E-4A66-8BF6-BA79DBFF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6723-DE50-40F6-90C0-6B482D85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B52D-373A-488C-9D55-93A670AB4B2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D2FA-E5C2-4D90-BD85-7DCBE2E0E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DED8-375B-4767-8AA7-91F5C3318D5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57F4-31E9-4E44-A950-B77AC39F7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Kurs for Turneringsledere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Kretsautorisasjon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tøtte til gjennomgang av loven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F025-4D4D-40B4-A040-4C93E606CCE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3E2A00A-1026-4110-A310-1D72A970B420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traffeutmålingen § 12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12 A 1-3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ngen straff i lov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Umulig å spille map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onet feil str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12 B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kke lov til å avvike fra de straffene som er fastsatt i lovene f.eks for rev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12 C 1-3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els pluss 60%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els minus &gt;&gt;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kke feilende får normal sannsynlig 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ilende side får verste sannsynlige 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Det er lov også for TL å ”veie” en sc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1D94-18AC-4203-952E-6E11F64340CE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1CDB7-0064-4E88-BB56-8F6F6F045539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Urettmessig informasjon § 16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l informasjon som ikke kommer fra normalt spill eller melding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uk av urettmessig informasjon fra makker er forbu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uk av informasjon som påtvinges fra andre kilder er forbudt, men erstatning 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sjon fra meldinger og spill som er trukket tilbake er ulovlig for en feilende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Når det finnes mye ulovlig informasjon så er det ofte umulig å fortsette et normalt spill. For eksempel når begge par har gjort feil som har ført til tilbaketrukne melding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0DC5-8C41-4324-A3F7-4D70EDBB477F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45D9A-3B05-4683-B6D3-D0DE4BDF5990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1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§ 17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år meldingsforløpet slut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ørg for at meldekortene ligger på bordet til meldingsforløpet er slutt etter l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§20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år er det tillatt å be om forklar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§ 21Om melding basert på ukorrekt opplysn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§21B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ør åpningsutspillet er snudd kan den av motstanderne som passet sist endre sin melding når spillefører eller blindemann retter en ufullstendig eller feil forkla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nten som svar på spørsmål eller etter plikten i §75D2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20FD-1FD7-4961-AFE6-C1D3349E248B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0238F-EEB0-4900-886E-07547F384F3F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2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23 skade ved tvungen pas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te er IKKE et sikkerhetsnet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 ! bare når ”den feilende spiller kunne vite at den tvungne pass sannsynligvis ville ska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§24 om fremvist kor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vens bokstav betyr her at spillere som ser på hverandres kort før åpningsutspillet er snud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Må legge alle kort synlig på borde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Må passe resten av meldingsforløpet dersom en feil forklaring fører til flere melding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0EA0-CC5C-462A-AA99-A173B2BC9FF7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3EDCB-ECDF-4132-A7EA-FFFF8441B857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3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§ 25 B 2 er vanskeli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uleringen ”DEN SIST AVGITTE MELDING BLIR IKKE AKSEPTERT” betyr at spilleren allerede har byttet ut meldingen sin når denne paragrafen skal  bruk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kke tilby spillerne å bruke 25B2b2 når du ikke m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§26 er en viktig støtte i svært mange andre paragrafer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§26A: Bestemt farge eller farger f.eks spar eller kløver og ruter gir rom for krav og forbud i disse farg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§26B: Andre meldinger f.eks pass, dobler, NT, viser spar og minor o.s.v gir rom for å nekte en hvilken som helst farge i utsp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157-1D8D-4AA4-8CD5-145E42FE5ED8}" type="slidenum">
              <a:t>1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93CB2-914E-487A-A895-30F53B8A0DF3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4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27 Utilstrekkelig bu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 må ALLTID få sjansen til å godta mel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e mellom naturlige og konvensjonelle b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kke tillatt å rette til Dobling eller Redob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§28 Om rekkefølgen av melding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elding av spiller i tur annulerer melding utenfor  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Dette er greit dersom det har skjedd ved bordet, men det er ikke et tilbud etter at TL har kommet til borde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EFC8-B608-4F62-87C2-E2DD0AAE1687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45073-D235-42C5-AAA6-F6820CB42013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5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§ 29 A gir VM rett til å godkjenne alle (lovlige) meldinger utenfor tur. Dersom han godkjenner en melding som er ulovlig etter §35-39 så annuleres den ulovlige meldingen og alle etterfølgende meldinger uten straff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§ 29 C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erk at konvensjonelle meldinger utenfor tur som viser en bestemt farge eller bestemte farger så gjelder reglene i § 30-32 disse fargene og ikke benevnels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F.eks spar og en minor er ikke bestemte farg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F968-59AF-406D-8D94-F1B3277644E4}" type="slidenum">
              <a:t>1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7BCA9-75EA-4423-BD8F-AB4BB6652AFD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6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§ 30-32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knisk kompliserte paragrafer som skal dekke nesten alle tenkelige varianter  og med nøyaktig beskrivelse av hva som skjer etterpå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Husk referansene til §26 og §23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§ 16 C nevnes sjelden, men all informasjon fra tilbaketrukne meldinger er ALLTID urettmessig informasjon for den feilende side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 33 (og§58) viser at når ting skjer samtidig så skjer de etter hverandre i slik at spiller i tur handler førs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34 fastslår at melding utenfor tur ikke fratar noen spiller  muligheten til å meld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391A-871D-4E4E-AD83-84AD6DC70260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7655D1-0C92-4EA7-B6A2-8D673D148F0A}" type="datetime1">
              <a:rPr lang="en-US"/>
              <a:t>07/30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7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40 er en sentral paragraf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ten til å melde og spille som en 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julte makkeravtaler er forbu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emmelser om konvensjo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Det er mye tilleggslitteratur om dette med psykiske bud tillate systemer og konvensjoner m.m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Vær alltid oppmerksom i grenselandet mellom skjulte makkeravtaler og psykiske b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Vær svært skeptisk til psykiske bud som reellt sett er bruk av forbudte konvensjo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0514-C3AA-4E93-8E55-135B4E01EECA}" type="slidenum">
              <a:t>1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F2CDC-C202-410A-B618-892161A64B30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ystemkor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BF har påbudt bruken av systemkor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 enkelte arrangør kan komme med påbud som også kan si at et bestemt system gjelder, eller at manglende systemkort fører til at et forhåndsutfylt kort deles 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vvik fra system når det ikke finnes systemkort eller annen dokumentasj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L skal tendere til å dømme feil forklaring og eventuelt ulovlig konvensjon når systemet ikke kan dokume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F08D-979F-4D0F-9B14-A4A4B44CA1B1}" type="slidenum">
              <a:t>1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C8634-5793-4878-AEDB-76666327C040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ål for kurse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Kretsautorisasjon som turneringsled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ne arrangere lokale turneri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ovkunnskap og dømm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gnskap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ruke manuelle metoder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ruke dataverktøy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rganisering av 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sentasjon av resultat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10BA-147B-4004-A356-58DCB234E7B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39818-EE98-4501-8882-D5C2CEDE6C69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kjulte makkeravtal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Når systemet er slik at en del hender er ”umulige” å melde, blir nødløsningen lett en skjult makkeravtal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Åpning 1 NT med singelton, 1 Hp for lite eller 1 HP for my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var 1 </a:t>
            </a:r>
            <a:r>
              <a:rPr b="0" lang="nb-NO" sz="20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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med 3 k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Melding 2/3 </a:t>
            </a:r>
            <a:r>
              <a:rPr b="0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nb-NO" sz="20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som krav eller holdvisende uten lengde os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år du tar en sjans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ker 1 kl HM:D du har 3343 og  0 hp og melder 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k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vtalen: Pass viser minst 5 kløv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kjult avtale:Pass viser en fryktelig dårlig hånd jeg håper at VM løfter oss av kroken  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8E6E-0972-420B-A178-254216B61FFF}" type="slidenum">
              <a:t>2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4F367E-B10D-4112-B1E7-B6E784DDDC20}" type="datetime1">
              <a:rPr lang="en-US"/>
              <a:t>07/30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Ingen makkeravtaler ?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ersom det ikke er noen makkeravtale eller makker har glemt avtalen så skal melderens makker svare det. Og bare det.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var på spørsmål om hva han tror det er hjelper ikke motstanderne og gir urettmessig informasjon til meld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ldingen som er avgitt vil senere enten være makkeravtalen, eller det må avtales noe annet for denne situasj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år melderens makker har glemt avtalen, kan TL ta ham bort fra bordet og la melderen forkla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avtalen er glemt er også urettmessig informasj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glende systemkort vil ofte bety at meldingen defineres som system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kke vær streng med slikt i sommerturneringer eller singelturner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2C06-3F6D-4AD5-BE6C-72207A8355DB}" type="slidenum">
              <a:t>2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FA2BA-3D85-443C-836E-06C609919C27}" type="datetime1">
              <a:rPr lang="en-US"/>
              <a:t>07/30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pillet: Fremgangsmåten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41 krever fordekt åpningsutspill NB husk §17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dingsforløpet er gjentatt ved at meldekortene ligger på bord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 kan spørre om betydningen av meld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pillefører og blindemann skal korrigere manglende alerter og feil forklaringer fra makkers side (§75D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otspillerne skal ikke røpe at makker har unnlatt å alertere eller har forklart feil (75D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8DD2-08D7-405D-BBDD-AEEC264310E9}" type="slidenum">
              <a:t>2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72CFF-05ED-4452-A6E6-584EAA0DA714}" type="datetime1">
              <a:rPr lang="en-US"/>
              <a:t>07/30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lindemann sine rettighet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t er viktig å vite om blindemann har sine rettigheter i behol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lindemann kan idømmes straff etter §90 for brudd på §41 A og B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 45 C Tvungent spill av kort fra en hån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se reglene skal håndheves ganske stren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Vær oppmerksom når du skal bruke §45 D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ll av vanvare kan være nesten hva som hel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F202-1DBB-4E02-8C87-F66DFD50D931}" type="slidenum">
              <a:t>2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09D5A-12CB-48B0-8A1A-2AD096C105B8}" type="datetime1">
              <a:rPr lang="en-US"/>
              <a:t>07/30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traffekor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are motspillere kan få straffekor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rt som er vist under meldingsforløpet kan bli straffekort dersom spillefører vil d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rt som er vist under spillet er alltid straffekort (unntatt når TL straks bruker §72B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oter hva som er et lite straffekort og et stort straffekor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år en spiller har flere straffekort som lovlig kan spilles, kan spillefører velge hvilket straffekort som skal spi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744F-1093-4FE9-9181-7C8F278840EA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17910-85DB-4638-86BF-F8608CB515A2}" type="datetime1">
              <a:rPr lang="en-US"/>
              <a:t>07/30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50D-36AC-4F2B-9A93-E6F2F6BDED77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47572-64BC-471B-ACAE-63B4AE8642ED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Redskapene i ledelse av Bridgeturnering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Vedtatte regl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sjonale lover 1997 utg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F sitt reg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F tillatte meldesyst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F regler for bruk av alert og sto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”</a:t>
            </a: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Støtteregler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inutes” fra W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Commentary on 1987 Laws (Endicott)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nbefalinger fra W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Turneringsoppsett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ävlingsled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Dataregnskap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25AE-B8CE-492B-B12B-EF642951E91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F1C08-EE1B-454E-8B7F-D1C0EE7FCE03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Lovboka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finisjon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orberedels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orberedelser og gjennomfø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regelmessighet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eldingen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Spille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Fremgangsmå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traffe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Rev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tikk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Krav og avståe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Etiske regl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5CB6-56C1-451E-9F43-AFA521216687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A12E1-340E-4212-BAB9-5780DEA5DEE4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Lovboka II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gnskape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rrangering av turnering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urneringsledere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varsområ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gjøre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rrigering av uregelmessig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ffebestemme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Appell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Utfyllende bestemmels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Re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tedfortredere i par eller singelturner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tedfortredere i lagturner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Rettigheter med hensyn til plassering i lagturner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Appendix om bruk av skjerm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3AE0-E164-4CFB-8518-5064C5AC04D3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2D029-F109-44AD-89D9-52F031E7E99C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Definisjon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 gjennom plansjene fra lovboka og vær nøye med definisjonen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k f.eks forskjellen mell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U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ELD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g merke til definisjon av konvensjonell me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6CCF-1AF3-4671-93F4-298E6B3C51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F3AF0-FE2B-42FF-BA15-72039A817083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Kapitel II og III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Forberedelser og gjennomføring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Tildeling av p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Giv og omg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Kontroll av mapper og k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Avvikling av r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3992-480F-45C7-9B19-FF7121E11A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3F387-937A-42D9-8E86-6C2DC696A956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Uregelmessighet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Hvordan og når uregelmessigheter påtale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tten til å tildele straff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tten til å anvende skjønn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Ukorrekt antall kor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pill av feil mapp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Urettmessig informasjon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66A8-14B8-4340-B987-B3875371001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D9024-8081-43D8-89FF-E58C6DE44ABD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Retten til å straffe §11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L er alene om å kunne tildele straff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L skal forklare alle valgmulighet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år en spiller skal velg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gen konsultasjon mellom makkere ved valg mellom alternat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tten til straff kan tap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d å spille eller mel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år en tilskuer ”som er din venn” sier i fra om uregelmessigheten    (se også § 7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C9C0-82DC-43EF-A968-2ED56932F4A4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4ED81-3894-4CA8-B46D-D06F5E51F902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17:30:15Z</dcterms:created>
  <dc:creator>Per Nordland</dc:creator>
  <dc:description/>
  <dc:language>en-US</dc:language>
  <cp:lastModifiedBy>Per Nordland</cp:lastModifiedBy>
  <dcterms:modified xsi:type="dcterms:W3CDTF">2002-04-17T23:10:54Z</dcterms:modified>
  <cp:revision>5</cp:revision>
  <dc:subject/>
  <dc:title>Kurs for Turneringsledere</dc:title>
</cp:coreProperties>
</file>